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0E3AE-0AA1-43F8-9B46-9D875B6A1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3A83B-4D8E-4657-8391-49E173BB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6EF53-232A-4E5B-AB65-75693501B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9B7CE-BF33-48BA-86EA-80ED0C0BA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4406-B612-4670-BA50-B58A19B16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7ADA0-C72D-432A-B013-4F7F8434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F00CF-34BD-4F26-9C27-F3B85FBB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F08F0-EC26-4CED-9D57-A5F14D071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5398-D6CF-40A5-BA34-9F9A329A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88B2-022F-4D2E-91F1-1091AF14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CB3E-B73E-44DE-ABBA-49C850B8D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A9AB-9241-4772-9D09-E91A06E23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D8F7-01CD-43C7-A658-5F5B5973BA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bc.net.au/arts/wingedsandals/history9.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4698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reek Theatr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Picture 4" descr="greek theatre"/>
          <p:cNvPicPr/>
          <p:nvPr/>
        </p:nvPicPr>
        <p:blipFill>
          <a:blip r:embed="rId1"/>
          <a:stretch/>
        </p:blipFill>
        <p:spPr>
          <a:xfrm>
            <a:off x="838080" y="1905120"/>
            <a:ext cx="7467840" cy="46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watch “Orpheus and Underworld”</a:t>
            </a:r>
            <a:endParaRPr b="0" lang="en-US" sz="4400" spc="-1" strike="noStrike">
              <a:solidFill>
                <a:srgbClr val="ffff99"/>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orpheu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watch “Demeter and Persephone”</a:t>
            </a:r>
            <a:endParaRPr b="0" lang="en-US" sz="4400" spc="-1" strike="noStrike">
              <a:solidFill>
                <a:srgbClr val="ffff99"/>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3.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watch “Apollo and Oracle”</a:t>
            </a:r>
            <a:endParaRPr b="0" lang="en-US" sz="4400" spc="-1" strike="noStrike">
              <a:solidFill>
                <a:srgbClr val="ffff99"/>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4.htm</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finish our last few oral presentations and activities on the “Greek Mythology Project” handou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at you know about the ancient Greek theatre and the history of Greek mythology, we can begin looking at how Greek plays were writt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e are ready to move on!</a:t>
            </a:r>
            <a:endParaRPr b="0" lang="en-US" sz="4400" spc="-1" strike="noStrike">
              <a:solidFill>
                <a:srgbClr val="ffff99"/>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reading “Oedipus Rex”, we will take a look at the author, Sophoc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look at the history of the Greek Theatre</a:t>
            </a:r>
            <a:endParaRPr b="0" lang="en-US" sz="4400" spc="-1" strike="noStrike">
              <a:solidFill>
                <a:srgbClr val="ffff99"/>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Arial"/>
                <a:hlinkClick r:id="rId1"/>
              </a:rPr>
              <a:t>http://www.abc.net.au/arts/wingedsandals/history9.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atre in Dionysus, Athens </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Picture 4" descr="greek theatre 2"/>
          <p:cNvPicPr/>
          <p:nvPr/>
        </p:nvPicPr>
        <p:blipFill>
          <a:blip r:embed="rId1"/>
          <a:stretch/>
        </p:blipFill>
        <p:spPr>
          <a:xfrm>
            <a:off x="1047600" y="1100160"/>
            <a:ext cx="704880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14698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reek Theatre</a:t>
            </a:r>
            <a:endParaRPr b="0" lang="en-US" sz="4400" spc="-1" strike="noStrike">
              <a:solidFill>
                <a:srgbClr val="ffff99"/>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1" name="Picture 4" descr="greek theatre"/>
          <p:cNvPicPr/>
          <p:nvPr/>
        </p:nvPicPr>
        <p:blipFill>
          <a:blip r:embed="rId1"/>
          <a:stretch/>
        </p:blipFill>
        <p:spPr>
          <a:xfrm>
            <a:off x="838080" y="1905120"/>
            <a:ext cx="7467840" cy="4647960"/>
          </a:xfrm>
          <a:prstGeom prst="rect">
            <a:avLst/>
          </a:prstGeom>
          <a:ln w="0">
            <a:noFill/>
          </a:ln>
        </p:spPr>
      </p:pic>
      <p:sp>
        <p:nvSpPr>
          <p:cNvPr id="52" name="Text Box 5"/>
          <p:cNvSpPr/>
          <p:nvPr/>
        </p:nvSpPr>
        <p:spPr>
          <a:xfrm>
            <a:off x="720" y="1371600"/>
            <a:ext cx="905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your Greek Theatre Chart on front of your packe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456840"/>
            <a:ext cx="8229600" cy="5668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 of parts of the Theatr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chestra</a:t>
            </a:r>
            <a:r>
              <a:rPr b="0" lang="en-US" sz="2400" spc="-1" strike="noStrike">
                <a:solidFill>
                  <a:srgbClr val="000000"/>
                </a:solidFill>
                <a:latin typeface="Arial"/>
              </a:rPr>
              <a:t>: The orchestra (literally, "dancing space") was normally circular. It was a level space where the chorus would dance, sing, and interact with the actors who were on the stage near the skene. The earliest orchestras were simply made of hard earth, but in the Classical period some orchestras began to be paved with marble and other materials. In the center of the orchestra there was often a thymele, or altar. The orchestra of the theater of Dionysus in Athens was about 60 feet in diameter.</a:t>
            </a:r>
            <a:endParaRPr b="0" lang="en-US" sz="2400" spc="-1" strike="noStrike">
              <a:solidFill>
                <a:srgbClr val="ffffff"/>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atron</a:t>
            </a:r>
            <a:r>
              <a:rPr b="0" lang="en-US" sz="2400" spc="-1" strike="noStrike">
                <a:solidFill>
                  <a:srgbClr val="000000"/>
                </a:solidFill>
                <a:latin typeface="Arial"/>
              </a:rPr>
              <a:t>: The theatron (literally, "viewing-place") is where the spectators sat. The theatron was usually part of hillside overlooking the orchestra, and often wrapped around a large portion of the orchestra (see the diagram above). Spectators in the fifth century BC probably sat on cushions or boards, but by the fourth century the theatron of many Greek theaters had marble se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 name="PlaceHolder 2"/>
          <p:cNvSpPr>
            <a:spLocks noGrp="1"/>
          </p:cNvSpPr>
          <p:nvPr>
            <p:ph/>
          </p:nvPr>
        </p:nvSpPr>
        <p:spPr>
          <a:xfrm>
            <a:off x="457200" y="533520"/>
            <a:ext cx="8229600" cy="63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ene</a:t>
            </a:r>
            <a:r>
              <a:rPr b="0" lang="en-US" sz="2400" spc="-1" strike="noStrike">
                <a:solidFill>
                  <a:srgbClr val="000000"/>
                </a:solidFill>
                <a:latin typeface="Arial"/>
              </a:rPr>
              <a:t>: The skene (literally, "tent") was the building directly behind the stage. During the 5th century, the stage of the theater of Dionysus in Athens was probably raised only two or three steps above the level of the orchestra, and was perhaps 25 feet wide and 10 feet deep. The skene was directly in back of the stage, and was usually decorated as a palace, temple, or other building, depending on the needs of the play. It had at least one set of doors, and actors could make entrances and exits through them. There was also access to the roof of the skene from behind, so that actors playing gods and other characters (such as the Watchman at the beginning of Aeschylus' </a:t>
            </a:r>
            <a:r>
              <a:rPr b="1" lang="en-US" sz="2400" spc="-1" strike="noStrike">
                <a:solidFill>
                  <a:srgbClr val="000000"/>
                </a:solidFill>
                <a:latin typeface="Arial"/>
              </a:rPr>
              <a:t>Agamemnon</a:t>
            </a:r>
            <a:r>
              <a:rPr b="0" lang="en-US" sz="2400" spc="-1" strike="noStrike">
                <a:solidFill>
                  <a:srgbClr val="000000"/>
                </a:solidFill>
                <a:latin typeface="Arial"/>
              </a:rPr>
              <a:t>) could appear on the roof, if needed.</a:t>
            </a:r>
            <a:endParaRPr b="0" lang="en-US" sz="2400" spc="-1" strike="noStrike">
              <a:solidFill>
                <a:srgbClr val="fffff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odos</a:t>
            </a:r>
            <a:r>
              <a:rPr b="0" lang="en-US" sz="2400" spc="-1" strike="noStrike">
                <a:solidFill>
                  <a:srgbClr val="000000"/>
                </a:solidFill>
                <a:latin typeface="Arial"/>
              </a:rPr>
              <a:t>: The parodoi (literally, "passageways") are the paths by which the chorus and some actors (such as those representing messengers or people returning from abroad) made their entrances and exits. The audience also used them to enter and exit the theater before and after the perform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ttending a Greek Play</a:t>
            </a:r>
            <a:endParaRPr b="0" lang="en-US" sz="4400" spc="-1" strike="noStrike">
              <a:solidFill>
                <a:srgbClr val="ffff99"/>
              </a:solidFill>
              <a:latin typeface="Arial"/>
            </a:endParaRPr>
          </a:p>
        </p:txBody>
      </p:sp>
      <p:sp>
        <p:nvSpPr>
          <p:cNvPr id="58" name="PlaceHolder 2"/>
          <p:cNvSpPr>
            <a:spLocks noGrp="1"/>
          </p:cNvSpPr>
          <p:nvPr>
            <p:ph/>
          </p:nvPr>
        </p:nvSpPr>
        <p:spPr>
          <a:xfrm>
            <a:off x="-380880" y="1447920"/>
            <a:ext cx="952488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plays were performed as part of religious festivals in honor of the god Dionysus, and unless later revived, were performed only once. Plays were funded by the polis, and always presented in competition with other plays, and were voted either the first, second, or third (last) place. Tragedies almost exclusively dealt with stories from the mythic past (there was no "contemporary" tragedy), comedies almost exclusively with contemporary figures and problem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take a look at Religion, Rituals, and Worship of the Greeks…</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bc.net.au/arts/wingedsandals/history4.ht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e will become familiar with some of the Greek gods/goddesses…</a:t>
            </a:r>
            <a:endParaRPr b="0" lang="en-US" sz="4400" spc="-1" strike="noStrike">
              <a:solidFill>
                <a:srgbClr val="ffff99"/>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ions:  You will become familiar with one of the gods/goddesses/characters in Greek Mythology.</a:t>
            </a:r>
            <a:endParaRPr b="0" lang="en-US" sz="24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Type in the link</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ad description/stats/family tree/events in the life of your character.</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n an index card, create a brief character description using ALL of the parts listed above.</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You will present your character to the class.</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rubric/sheets for further information.</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ill out your rubric sheet with your name/character name and present to teacher before your oral presentation.  </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See the “Greek Mythology Project” handout for more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view “Perseus and Medusa”</a:t>
            </a:r>
            <a:endParaRPr b="0" lang="en-US" sz="4400" spc="-1" strike="noStrike">
              <a:solidFill>
                <a:srgbClr val="ffff99"/>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perseus_medusa.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0:39:26Z</dcterms:created>
  <dc:creator>bruce conti</dc:creator>
  <dc:description/>
  <dc:language>en-US</dc:language>
  <cp:lastModifiedBy>Suzanne Conti</cp:lastModifiedBy>
  <dcterms:modified xsi:type="dcterms:W3CDTF">2010-09-11T13:48:52Z</dcterms:modified>
  <cp:revision>12</cp:revision>
  <dc:subject/>
  <dc:title>Greek Theatre</dc:title>
</cp:coreProperties>
</file>